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D674-91D3-491C-84D3-2CBA8E58A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85EE-6711-4CD8-8097-B2DF9309D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A5A5D3-226D-4B7F-974B-DD6580E69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F77A16-FD5D-455E-B45D-2549F94C6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6CAD90-256E-41E0-BF13-BB4ADA5AC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47857B-7135-4B9B-A057-3E6C50D5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9B236E-EF8F-4098-B650-F9B6C1BF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759C35-2AEC-4D55-AAA9-2B088F74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836C05-C65E-4A09-8E97-11856D87D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68DFB3-4F76-443A-88DF-0CFC35292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3A144E-00DD-4F5D-8976-DB24C99BB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1D34C1-5189-48C3-861E-13FE31137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5CE0-D250-48DC-9BF0-C5EBB4878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3F257E-0A67-4DAC-93BA-240A9763A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B44577-3F7D-487A-AFD0-184B898C7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35A697-7746-4B24-9F8F-9485A7232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1306B8-0342-404F-A98E-3D84EB77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3C246F-5D6D-4129-959D-2A9BC6DC4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336CFE-927A-4E3A-A686-D9E0D1ED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FE6629-8D8C-4EF1-B31C-0DDADD0F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0B4AA7-1CF3-42CF-A8F5-A8BAE517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40DDB3-3647-4D2D-B0D8-CAB9A4479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C5170D-7142-4223-9ED6-AB288C54E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01A4-3BD6-4F9C-B208-EDE958100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8B28BF-1A05-477E-9C23-0931489F9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3761D1-7373-431C-AC70-2E9D5067F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C76189-AD0D-4F5D-BEF8-F112CEC8E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FB3859-BEFD-4CDC-B611-11F9B3712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1D581C-12A9-451F-8665-2072091B9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2178F6-DC36-44F2-AA3D-05020D391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6A890D-6752-4996-B92F-449BDCFDF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28400C-95D7-4584-A090-87915F1A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7F72FC-8AEE-45AD-B75D-9D10D40D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4BCB28-35A8-42C6-9881-7999F677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4C6E9-B328-4C8F-9BAB-00AC4A8EB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D064D8-3FFB-420D-8533-D383440E6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2361C1-9F5E-4F9E-A112-BA56162B1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B6BB7A-3078-40ED-991F-A9850C336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D70947-85AF-4E68-8042-CC3975C68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CB3FB8-728C-4AB2-9C9F-4521320AB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F5DB1E-499A-4D73-971D-69B089E64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1063C7-FBA0-43FA-B74E-F8C89C709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4D3DAF-4353-4AE9-A49E-57C3D1006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AA1FEE-9859-4861-9B14-495D420F5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902ACB-4340-4540-AE04-0FB2CD2B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FE8A6-D836-4659-A24C-32D624D40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7BC6F1-D6C1-4666-ADA1-E8773851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F8B645-8E4C-4463-9971-6490B35C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F85BDD-46E1-44BF-B15B-9846CC656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CD6B0D-3798-4A36-A477-B202EB82D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BCE316-D773-44D7-817B-3D5BD8277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3B179D-42AE-4E7B-95C2-E80FE20EC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9FBC5B-61E0-4B7F-B558-C6E5306CA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32F9B2-8880-408C-A596-78DD0BBB6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B81201-82BF-43C6-B4EC-FFFC205AF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903830-7E8A-4ADD-A5AF-8438FAF65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DC337-34A5-40D1-B9A5-958E33812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FFC3F3-76E9-4301-B0E4-FEE25DAFC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EB96F9-DB4D-411D-BBA4-6AA9F262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2A0DC6-8668-442D-80CA-2D7F4905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336568-94D0-449A-9C04-B3AE20B0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DB7772-64E7-4A56-BDE5-E6283DE4C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48C27B-B942-4A6E-BF55-F54E0AC94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C08BDB-16D2-4381-81A7-806B85B3F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931907-B896-4C05-A3D7-AE074223A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D2D571-5268-408E-9159-40C1AF11C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73E8A3-A46C-4EBF-ADF4-AE452FC4F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157C0-A9CE-4871-BDD3-7868ACF6D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E0A7A5-A554-4FB6-B2F8-0B95AA555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20622A-AACC-4850-965E-0A4CDF68B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C57419-7C2D-418F-AA56-38C0E61EE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C5AC79-CE79-4E4B-83E7-3C581546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153F4E-541D-44F4-AE69-F45FC79D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A946B5-4383-4EEB-9075-6F8A658D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A76EC5-1C17-4336-910B-6C6A847D1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CE5C07-2C0E-4BE7-9199-B6CA11F43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3B2008-399B-43CA-9CF8-9C03989CF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12B377-1C0A-4250-966D-34D567116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8754D-60D4-4F55-AB06-DCEC0DD40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5FFB91-6579-45B6-AC3E-079A43E96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3A4391-DA01-4927-86FC-067EF7DE0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F6B4D9-3CCD-4372-94FB-E8CB0809A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540C0F-AB4F-4DFE-A85F-D26230DD9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6E523B-84F2-47F8-8EA2-F4400CDEF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515A43-3D82-4C85-BE22-62E2F7B9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FEE29E-A0F0-4F93-AB85-DADAC464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7EBBFD-E98E-4B10-AE3E-67B3F047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94DFFC-0F22-41A6-ACB2-878D51734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A14DCD-C3AB-4379-BCB9-3C1EADE28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18EF5-3D65-4959-9AC0-566A57D1E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6DF0CA-FBC5-4AF6-9ECA-F3E649E2E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4059AF-F9F9-454E-8B6F-10B1B5FDF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726B25-2611-42E3-A60D-EBC8082C3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49C198-B5B0-4081-A6D3-355C9487B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AC8F16-0D8D-40BB-919E-5123894CF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F9BBD3-AC9D-4522-8A6B-F1DB94068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8F2BBC-A740-4694-B067-05B530906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6B14B1-FCF5-4403-A748-B58439C3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FE98D0-27EB-4951-950C-3B36CC52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782E4D-0658-4D5E-95E5-C2AB3D2C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6302F-055C-4DC2-9A3C-5B2CF045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23AD4E-91BC-46A3-9667-85F612081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76DDB8-D988-4E58-8A0E-9CBF0B8F4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9E38F5-6093-414C-BE06-EC35B57EF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98CFA4-113A-486F-86CA-5B81DA152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A72345-FA25-4BF8-BD72-00FE74783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06A985-AD97-4825-8E43-3E2DC4F50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1A9050-5FE4-47CA-BCC5-F246A2BBF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B57ED0-7C13-49C8-9523-7E0ED9B5C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B44E1C-65CF-42B4-B668-FFDE2EB40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7C3625-829A-4AC6-BDD1-0694C227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E628-62CB-4F5C-9710-F57ECED3F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2F650-A298-4152-BE59-CC13FDAE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FDB497-D6AF-4D0E-8DD2-9BF51E28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0CA79E-8D6B-487C-B13B-93BF10E0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2B1E2A-471A-49E0-B887-797B904EA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4A384A-6DF2-4A36-9226-2C29E658F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BEA785-062C-495A-893D-B94122102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96A49F-0A53-4880-B9C6-EBA25B2A0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A5DA95-6D03-4059-A4AE-CC429878B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FF9F94-FCF4-451E-80F4-88F9EE9F1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6CA913-9CE4-4DA2-90C4-5F2EBFC23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E7AE97-D828-4C8B-8187-D80AFE108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ADBDB-494A-46B0-B4C8-5A4C38A0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0916DD-4A6A-4C3F-8D52-3B78F159B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82A6C7-1922-475D-8555-9BA7D484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1483D3-6DC9-4A6B-A798-2AB7A422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C9A1EC-F284-437B-B555-74EEDD4B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5CEB30-F4F0-436E-AC62-6BA789094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FEE182-C423-42FF-B298-9ABEB3BF8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025E62-4605-4159-B53C-58F9F0C0C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DC2D90-14BF-4ABF-A0C9-B60831DA5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BBBEE6-44C7-4B70-92C1-CFBAF7FDF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004654-7212-49FD-97F4-7B5B968A9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E5042-A17C-46A4-8197-5F7F68F85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71B29B-8786-43B5-9BEB-D82170556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E8AE86-069D-4702-850A-7BAE2F9D0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AB84DA-BBA3-4D94-86F7-5934476D8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5C89A7-72C9-4C37-902D-E2AFE9DE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83A2A2-8DD2-4DDA-9BE6-47BD3B0D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78F4FC-88C6-4603-98BD-F35F26B1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8E6B88-9B84-4ACD-AF96-49EA0E9CF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CA37DC-08D4-4789-8A18-AA7B71A88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094B98-AD72-486D-9654-2276734D1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D00287-1BEB-4033-B3EA-9E4C18EB8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9270A-1DA8-4F1B-A8C9-EA43C9DBE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513A36-1D54-4DF0-B887-36F2B2114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7FCAFA-4CEF-460C-B133-E94BDE336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E70498-5ABA-4E9B-8F86-8861BF95A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60C352-9C56-4DFE-9259-870468BD1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01248E-386C-47FA-8631-63DE42EC6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99B24A-660C-4936-BDCE-02754CBC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A7289E-2E82-441A-93CC-D4AFCB47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389841-37E1-4879-B118-DA018BD6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612F24-EFF1-4501-8579-224410741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4B7DDD-44A0-4AB2-86BA-B5C714FB3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9F6F3-C3C1-4F85-B06D-2DBD91952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FC0003-D78F-4754-80EA-B5CF1C62D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4C0EFD-3194-4FD1-826F-FF2F22DA6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4532B5-C301-4102-AB46-110AF47C3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0EAF5B-2676-435C-A060-D02534DE4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F114DB-557B-4C60-9A77-32B700F7F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BF3733-473D-4E81-9FFE-A8FBB59E0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32934E-91E8-450F-994E-4C31B9500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A47A9C-81FD-4670-8375-EA65F13C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AD2E84-EF90-4E29-9D5E-E842E95D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B543DC-6AD4-4771-9F96-98F7B595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41BF7-F048-43D0-8C6D-15CEDDE5C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FAB915-A206-4314-B7D2-037319CAF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112F2C-7ECE-43A9-827F-F7E5CE504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22BF7F-DF2C-4937-9031-6F7704A58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99113F4-61B9-4208-94DF-4F47679D0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0B8912B-6577-49BA-AAB9-D3AFC4DD1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74C91F1-96B2-480F-B980-C3C4F0099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1D5CAA4-429B-4927-8E6C-C0AE78BEF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CB91EE9-1D62-4898-B865-6D03B8703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172A773-11E8-46A3-A67F-9FEE9E662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C07B9C7-4D1B-4F98-9F42-65DACD41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6DB2F-498D-4062-9539-B9AB81C6D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7713BF1-7B8F-4942-BA0A-A246E6CD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AA1FB4B-7BCF-44FC-BE71-F2024443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2A40352-9CE1-46F8-B8B5-562C85A66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E961AD0-CAB5-42C6-A4CB-2434F51AF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7D1C993-68B2-4200-81D1-124211598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5546A-5757-4A57-80A7-2C92A0AE7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0A042-AB8A-41F4-BA27-ED4CF0C16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BBF52-9231-464E-B176-94DDCE88C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AC7B-87B6-4DB5-978B-1F657C389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E91A8-3C56-42FF-9667-6C1F803CB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B07EA-91E8-49B2-9937-0CC43B76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2CDFD-DAB1-4BA6-B8B7-B0EB3F41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9C30A-2F86-4128-9ED3-1535335B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6EAF5-BEF9-469A-B2E1-3444395EB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F1C63-CF7C-4176-95A4-F6FFF841E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EECA3-64BD-47E0-9BF5-85B0E39A4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7B660-DB65-45E3-9554-B29791E91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71C3C-79A3-47BC-B253-6E20BD411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3D7C0-7A73-4627-9B07-DFFF7AC56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CD0E-ADCB-4F8A-8ACD-5FF28D65A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C6009-EE64-4E1F-A994-062042592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39AAC-8BDF-4080-985B-27DA6BC72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D839B-9BE6-4113-A6F3-595E1992C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7AD6F-50BB-4A20-963A-C23B87DA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E2C2D-4530-42AF-9198-3E5E24B8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D4DCE-5240-41EE-9CD7-3668A2A2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F6D80-454B-44C7-8FAD-03272FEB5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CABD1-0FE7-4B21-98EF-F43421C02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B9BA0-B4D1-4851-A578-71F1CBE6D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7ABDF-77EF-4D3C-91F3-912DBFCB3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BBC4-043E-45B3-B0CB-789320B88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4B9C6-7BB4-4CA2-AB8D-A29BEC4AE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11AFF-F137-4F1F-8114-A319820A5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69710-56F1-477A-A864-7FAD28FFF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EC5E5-0470-4F4C-9B6E-3E8E978D3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2C148-B413-43DF-B23D-2CD2A0192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B0C29-C580-4188-990F-E02A7C12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4FA3B-88C5-4C41-8747-180362EB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443F0-20CD-46C4-828B-71831200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A1173-DF09-4662-9204-1847C15CA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D90A5-0AF0-4205-8767-78331A1AD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53E2-CA4F-4B06-BF26-B1C8E1476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0A4A4-DAB6-420B-9C88-720286D37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94221-C077-48D2-BB38-7AA8FCFF2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7E6178-1355-46B5-8B0E-C9D3CCE8A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D82B4-F24C-4E37-A9E4-8E2FC4513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A0E67-966E-462C-ABC1-328F0C180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6D444-456B-451C-9CF8-A6C30484A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5B26D-C474-4EBC-AEA8-17DDB7E37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461CC-25DD-403F-82B2-E8304F64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E0526-BF40-403D-88E3-1EE4968E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C9F96-3B45-45C7-B0F7-E7607009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C33F-1C42-4FEE-806A-FB80CD70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68790-D99F-425F-B6BE-E958A6A2C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02143-57B1-4FCF-A11B-6CA01F12C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43C1D-F3D2-4675-935D-E70078B1C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C4CB90-41DC-4CF3-9B16-24A63CCA6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CFE1A0-6FE6-4285-B33E-B880D10A6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C3CF3E-D61D-4BA0-B6C6-A6D3C17F6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86AE8-1B63-4AA6-AC63-FE47ECA92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312D5-9AE7-461C-802D-98A154722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08BB55-CA1D-4B94-A820-F4DC6704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0E57B-58BC-4F84-B431-FB795D58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10DD-6162-44AC-A9B2-82992EBBF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296B5-2CAB-46E6-A4D0-4E4297D0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FEFED0-F2F1-48EE-ABC7-4A2909EE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78008-3F97-46A9-AACF-62FAD7564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14A1D2-0B46-46FA-97BB-33A2503D4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7CBCD-2292-4019-9141-0739F1E14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3014F0-A7A7-49C1-A602-A4E7B3C04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89E23-C70B-4570-A83D-6439D8900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4CEE4-8E9E-4F45-832B-62B73FC33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15CBFF-BA02-4D88-B069-95DB360FD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679603-451D-4188-8363-7B5A72AA8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9EFB-B24C-4F2B-A336-7EB389AE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99E8DC-44A1-4B61-8F08-09218EB6F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7E34D4-7AE3-46C6-97A9-7CD3D568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8464F3-2270-4CFA-90AF-07FE8A12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F9353-0C79-425F-ADC6-ADA5365B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292A34-469C-4045-9650-04FFAEFB9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2420BF-7ADC-4405-AB86-22BA06FB2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0123CF-2D7D-40A7-8921-4D3D7EF2A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9A9423-ADC1-4F0C-A888-B8DE92C7B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5EB343-A4A1-4553-934F-40650F6AD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1B569E-BBA9-4CF3-B9A5-58EE8F25C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F9A68-5B9B-49AB-BAC8-4E0DDA95403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89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E55C9-8D84-417A-86E6-BD8241818C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5A1C3-D982-4265-83F0-6BD505EF92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81F16-8562-4342-A824-E724823970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C0843-1088-43BA-BB22-8D03D42CC0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83A1A-0606-4D86-BBDF-AB1A34E33E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51C9A-DAEE-49CA-ADED-54CC7255BD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9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27AA1-10BD-44A7-AEF5-DED7A78C09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CCBE0-6012-4AD3-990C-13E3824FCA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3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FA6A1-041F-419D-8DC1-B10C52B550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BAF82-3910-485C-8005-E82C4505FDE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07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9AFFB-4F98-401F-8764-76D3939577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4F3AD-3F04-4116-8567-A602FFB368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1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CA51A-8A28-483E-ABD1-3B7D8D44940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12ACD-AC42-45E7-8EEE-2578CB8118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6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8A0BB-9EBF-48D5-AF98-24581A3F78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6760-0C01-42CF-A3E1-B6D4034614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D802F-566F-45AD-9D40-EBAE892763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8B58D-E925-4633-A32D-37E5C28475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94235-3AC8-46E0-849B-8EFF76C2BA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4D018-03EE-4981-898D-894E0E3A1B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4A97D-E367-49B4-9FC0-CB2D4ACCAFD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8726E-D9AF-45A3-9A4B-E949BE760C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F303B-D74C-4A57-8B95-B4130D89CB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5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585C7-DB5D-4500-AC70-F81522C23A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69A07-0578-47FC-A897-E4DA69C270A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9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20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CB43B-B2F3-4EA1-A24E-A4D53D4F98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2730E-A847-4015-9677-479BB16DEB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C381D-DCFF-4950-B285-C756DAAD79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2FBDD-9C79-4379-8912-8714B02F12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F2CD4-A488-4837-881F-5DF3EEA1306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69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441AE-912F-449E-9AD2-D279B09077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AA189-B6A2-4E5C-9713-8D47BFBFB5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C1A30-EA64-4152-9F48-1711EB3C6C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D3843-C040-44AE-A1E5-D032086346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57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A7C49-CFF5-42B3-B8A1-73588BC759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3A576-34E9-4CA5-AA10-BB8FC70FFD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1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DB23C-B06B-4CAB-9227-3F0430A071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05416-AB4B-4A5F-8941-1A558930ED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5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59CD6-9A90-4D27-A640-85A26EDF0C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1B19C-2944-4481-B5BF-E4C7A44030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图片 5121" descr=""/>
          <p:cNvPicPr/>
          <p:nvPr/>
        </p:nvPicPr>
        <p:blipFill>
          <a:blip r:embed="rId1"/>
          <a:stretch/>
        </p:blipFill>
        <p:spPr>
          <a:xfrm>
            <a:off x="2266920" y="3133800"/>
            <a:ext cx="461016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3" name="组合 6148"/>
          <p:cNvGrpSpPr/>
          <p:nvPr/>
        </p:nvGrpSpPr>
        <p:grpSpPr>
          <a:xfrm>
            <a:off x="157320" y="909720"/>
            <a:ext cx="8829360" cy="5078160"/>
            <a:chOff x="157320" y="909720"/>
            <a:chExt cx="8829360" cy="5078160"/>
          </a:xfrm>
        </p:grpSpPr>
        <p:pic>
          <p:nvPicPr>
            <p:cNvPr id="964" name="图片 6145" descr=""/>
            <p:cNvPicPr/>
            <p:nvPr/>
          </p:nvPicPr>
          <p:blipFill>
            <a:blip r:embed="rId1"/>
            <a:stretch/>
          </p:blipFill>
          <p:spPr>
            <a:xfrm>
              <a:off x="157320" y="909720"/>
              <a:ext cx="8829360" cy="503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5" name="图片 6147" descr=""/>
            <p:cNvPicPr/>
            <p:nvPr/>
          </p:nvPicPr>
          <p:blipFill>
            <a:blip r:embed="rId2"/>
            <a:stretch/>
          </p:blipFill>
          <p:spPr>
            <a:xfrm>
              <a:off x="1332000" y="4797360"/>
              <a:ext cx="6933960" cy="1190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66" name="Picture 1" descr=""/>
          <p:cNvPicPr/>
          <p:nvPr/>
        </p:nvPicPr>
        <p:blipFill>
          <a:blip r:embed="rId3"/>
          <a:stretch/>
        </p:blipFill>
        <p:spPr>
          <a:xfrm>
            <a:off x="3851280" y="3875040"/>
            <a:ext cx="358920" cy="318960"/>
          </a:xfrm>
          <a:prstGeom prst="rect">
            <a:avLst/>
          </a:prstGeom>
          <a:ln w="0">
            <a:noFill/>
          </a:ln>
        </p:spPr>
      </p:pic>
      <p:sp>
        <p:nvSpPr>
          <p:cNvPr id="967" name="椭圆 6149"/>
          <p:cNvSpPr/>
          <p:nvPr/>
        </p:nvSpPr>
        <p:spPr>
          <a:xfrm>
            <a:off x="2382840" y="4869000"/>
            <a:ext cx="936720" cy="115236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椭圆 6150"/>
          <p:cNvSpPr/>
          <p:nvPr/>
        </p:nvSpPr>
        <p:spPr>
          <a:xfrm>
            <a:off x="3592440" y="4869000"/>
            <a:ext cx="936720" cy="115236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9" name="图片 7169" descr=""/>
          <p:cNvPicPr/>
          <p:nvPr/>
        </p:nvPicPr>
        <p:blipFill>
          <a:blip r:embed="rId1"/>
          <a:stretch/>
        </p:blipFill>
        <p:spPr>
          <a:xfrm>
            <a:off x="223920" y="1209600"/>
            <a:ext cx="8696160" cy="443880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2"/>
          <a:stretch/>
        </p:blipFill>
        <p:spPr>
          <a:xfrm>
            <a:off x="3851280" y="305424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3"/>
          <a:stretch/>
        </p:blipFill>
        <p:spPr>
          <a:xfrm>
            <a:off x="5796000" y="302580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4"/>
          <a:stretch/>
        </p:blipFill>
        <p:spPr>
          <a:xfrm>
            <a:off x="7812000" y="306864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5"/>
          <a:stretch/>
        </p:blipFill>
        <p:spPr>
          <a:xfrm>
            <a:off x="1116000" y="522936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6"/>
          <a:stretch/>
        </p:blipFill>
        <p:spPr>
          <a:xfrm>
            <a:off x="3276720" y="522936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7"/>
          <a:stretch/>
        </p:blipFill>
        <p:spPr>
          <a:xfrm>
            <a:off x="5435640" y="517212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8"/>
          <a:stretch/>
        </p:blipFill>
        <p:spPr>
          <a:xfrm>
            <a:off x="7524720" y="5186520"/>
            <a:ext cx="3589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图片 8194" descr=""/>
          <p:cNvPicPr/>
          <p:nvPr/>
        </p:nvPicPr>
        <p:blipFill>
          <a:blip r:embed="rId1"/>
          <a:stretch/>
        </p:blipFill>
        <p:spPr>
          <a:xfrm>
            <a:off x="57240" y="2066760"/>
            <a:ext cx="9029520" cy="2724480"/>
          </a:xfrm>
          <a:prstGeom prst="rect">
            <a:avLst/>
          </a:prstGeom>
          <a:ln w="0">
            <a:noFill/>
          </a:ln>
        </p:spPr>
      </p:pic>
      <p:sp>
        <p:nvSpPr>
          <p:cNvPr id="978" name="椭圆 8195"/>
          <p:cNvSpPr/>
          <p:nvPr/>
        </p:nvSpPr>
        <p:spPr>
          <a:xfrm>
            <a:off x="8439120" y="3486240"/>
            <a:ext cx="482760" cy="57600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椭圆 8196"/>
          <p:cNvSpPr/>
          <p:nvPr/>
        </p:nvSpPr>
        <p:spPr>
          <a:xfrm>
            <a:off x="7667640" y="4048200"/>
            <a:ext cx="627120" cy="64764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03:04:53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